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F422-17C6-4284-951F-5F6BF1BC9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8C75-769B-4804-A42A-8D2A10FBA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C6B-8915-417B-93B1-0D1D5948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4BD-C411-400F-860B-B6765241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A4E-096E-4706-BFB1-44EC01D3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2D3-A5CD-4BE9-BEC2-CEF97FB1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664-F060-4E6D-8F6E-B6A304C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BA8-90F4-495F-BC94-FC24D03B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2BC-5F8F-4663-AAD9-88F68E17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197-6F35-4AA4-8DB7-589BDE4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D32-2B5B-49EF-A760-06664D5F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A36-A6BE-4AD5-931A-4E49657F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051-0E55-473F-9DE8-B04148D6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BED-1503-4592-B9F9-307D1FA6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92AC-E9C5-41CD-A308-43434E5391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E26E-9FEF-43D4-B788-81A76CBB37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1" name="TextBox 6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 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νθρωπος καλει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νομον φι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ἀμην λεγ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ει ὁ Χριστος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ον κοσμον κ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E094B422-63BD-40B3-9789-0DF3910DE9D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7" name="TextBox 5"/>
          <p:cNvSpPr/>
          <p:nvPr/>
        </p:nvSpPr>
        <p:spPr>
          <a:xfrm>
            <a:off x="1000080" y="1928880"/>
            <a:ext cx="78580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ωσηφ λαμβανει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και φιλουμεν τον λογ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rist says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rowd listens to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setting free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ome) People are ma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BEBC5AAD-ED04-482D-A0B0-F077161A69D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1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λα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γγελοι βλεπουσ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τον θεον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τε τον ἀρτ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ακωβ ἀγει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νομον τηρει ὁ λαος Ἰσραη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6B774F4D-5039-4318-B8A1-CE3B470574A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1000080" y="1928880"/>
            <a:ext cx="74296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Δαυιδ ὁ κυριος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Χριστος τους ἀνθρωπους λ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has me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each the 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the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9DF3E1E3-9936-4C33-83A2-B3411586D51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38:08Z</dcterms:created>
  <dc:creator>Sarah</dc:creator>
  <dc:description/>
  <dc:language>en-US</dc:language>
  <cp:lastModifiedBy>Sarah</cp:lastModifiedBy>
  <dcterms:modified xsi:type="dcterms:W3CDTF">2008-12-30T22:24:12Z</dcterms:modified>
  <cp:revision>16</cp:revision>
  <dc:subject/>
  <dc:title>Slide 1</dc:title>
</cp:coreProperties>
</file>